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EB1-7381-460D-A7CE-5A4D065F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615-3BF4-4A32-985B-D0563B6D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809-6DB1-4ACB-8D77-971554D0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AED-533A-45F2-9770-DA8EE2D3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D7E-BD83-4E87-A609-F695CF7C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00E-3552-4747-909A-4B558BF9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276-32DC-47FB-9F49-FAEBCF71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884-0FB3-4428-92D5-C305D014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720-0A44-42E0-A734-47C28EFC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EB7-B048-4518-A494-F87B97DE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714-487D-4377-891A-AFA5058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947-ADBE-4925-B483-DCEAB92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CB51-86E0-400E-9DDF-33123D3413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200" y="6202440"/>
            <a:ext cx="40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ofteaching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40EC-287D-4A23-98B8-74993C6907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DA0-E4CA-4B21-B1C9-B9A6EF6632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0825-0498-4940-AB1D-E40420FC78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F61-F739-46C5-9260-D3BD1F0B88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255-B1E2-4B39-8CC6-3BF925AFE9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tha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 many squares fit inside that shape (if measured in feet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feet…if meters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72CB-252A-4A35-95BD-058BD1C94B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CD50-C68F-410F-B3D7-172F3B405D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96AB-76DF-4BE0-8DF8-D728AEFCF1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941-540D-40D6-A5E2-DFCA721B50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6AB-7078-4A21-A6A8-97601EEC95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4A79-DC0D-4D61-8E1B-36B38139E9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5A10-AB39-47D2-AB58-301EF634F3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½ because ½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BEBE-79E4-4E71-B4CC-38C66A82C5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375-77A3-4AAE-971D-FFC4E56768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D36-5306-49F5-9A5F-95678CCECF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0D7-55D4-4BA8-A3D5-E5575EF6F6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A5A-691A-4BC1-A352-10B4573098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F79F-024A-448B-987B-D7BC5DB2C3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19B-F1C4-4448-A02B-A6AEEB2C50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ach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line segment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enc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B4A-C3FF-43F8-B3ED-2FBCED90A3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833A-6CAB-4D03-875B-08CD3954C2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5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EA0-CC5A-49D7-BFFB-46D7EC984A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E54-4BB9-44D7-810E-BE803A136E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a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E3A4-0D38-4EF0-8AAF-9E198FF7B0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bethany.jackson</cp:lastModifiedBy>
  <dcterms:modified xsi:type="dcterms:W3CDTF">2012-03-10T17:22:17Z</dcterms:modified>
  <cp:revision>16</cp:revision>
  <dc:subject/>
  <dc:title>Formulas for Geometry</dc:title>
</cp:coreProperties>
</file>